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DC28-9F16-496E-B069-796597CF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3059-F5AA-47C2-9E26-CA89C427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06EE-A1DA-4FE5-BBBC-7E0B2C6B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F600-8D82-457F-8543-8A0AC3BE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3774-5D41-4510-BB3F-FEBC01D0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66BF-2B38-40B7-A25B-70D423D8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025F-E73E-4217-B9B2-4D6EC197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93ED-FC2E-4B0A-9F75-4DE40322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CAC6-A5DA-46C7-84A6-DB672769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D80A-7537-4963-8583-668FB125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DF8A-944D-492F-9819-12187805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FEB-3A37-4AF6-BD48-53C509CB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7D7C-3493-4DF1-960C-74508DCE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E8B2-1CDD-458C-82FF-F69D5633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E246-B4ED-416D-A253-6A7712C1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AC8F-6911-4FBC-BCA8-CFF09967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EB43-ECC3-4B28-9DE3-7475D732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2F0-D632-4E8C-9CFF-AD8E596E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4C31-E45A-441D-B3E4-911B7E34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8EDA-0281-425A-B465-7FBCD2EC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6286-A66A-41A4-B328-05CABFFB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98F-DF02-468E-99A3-20F8D1CC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0E15-C036-468D-893D-6A371942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A2A6-BD57-40B2-9BE3-DB427CD7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F740-D1C8-48BF-A573-34453A68DC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1D05-66FB-427C-9146-F47BE98D18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4751280" cy="5211720"/>
          </a:xfrm>
          <a:prstGeom prst="rect">
            <a:avLst/>
          </a:prstGeom>
          <a:noFill/>
          <a:ln w="0">
            <a:noFill/>
          </a:ln>
        </p:spPr>
        <p:txBody>
          <a:bodyPr lIns="144000" rIns="144000" tIns="144000" bIns="144000" anchor="t">
            <a:normAutofit/>
          </a:bodyPr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o met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 alternativă de predare-învăţare-evaluare prin care se 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zvo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elev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bilităţi şi competenţ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nivel superior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are secolului XX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e comuni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r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în echip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abil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te de adap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v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ire criti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istemi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7"/>
          <p:cNvSpPr txBox="1"/>
          <p:nvPr/>
        </p:nvSpPr>
        <p:spPr>
          <a:xfrm>
            <a:off x="324000" y="260280"/>
            <a:ext cx="727236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Învăţarea prin proiecte</a:t>
            </a:r>
            <a:endParaRPr b="0" lang="en-US" sz="14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3" name="Picture 9" descr="http://www.perrypl.okpls.org/computer.jpg"/>
          <p:cNvPicPr/>
          <p:nvPr/>
        </p:nvPicPr>
        <p:blipFill>
          <a:blip r:embed="rId1"/>
          <a:stretch/>
        </p:blipFill>
        <p:spPr>
          <a:xfrm>
            <a:off x="5148360" y="1916280"/>
            <a:ext cx="3471840" cy="32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500"/>
                            </p:stCondLst>
                            <p:childTnLst>
                              <p:par>
                                <p:cTn id="4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7905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  <a:ea typeface="MS Mincho"/>
              </a:rPr>
              <a:t>Este grea matematica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3960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or care răsp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  <a:ea typeface="Arial"/>
              </a:rPr>
              <a:t>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 oferim oportunita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a depăşi greutăţile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printr-o altfel de abord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şi de a împărtăşi cu ceilalţi satisfacţia obţinerii rezultatului aştep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7640" y="1628280"/>
            <a:ext cx="3886200" cy="42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or care răsp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  <a:ea typeface="Arial"/>
              </a:rPr>
              <a:t>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 oferim oportunita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a obţine rezult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printr-o altfel de abord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i de a expl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meniul propus î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ice direcţie dore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3702240" y="4430520"/>
            <a:ext cx="1740960" cy="1738080"/>
            <a:chOff x="3702240" y="4430520"/>
            <a:chExt cx="1740960" cy="1738080"/>
          </a:xfrm>
        </p:grpSpPr>
        <p:sp>
          <p:nvSpPr>
            <p:cNvPr id="98" name="AutoShape 6"/>
            <p:cNvSpPr/>
            <p:nvPr/>
          </p:nvSpPr>
          <p:spPr>
            <a:xfrm rot="21243000">
              <a:off x="3779640" y="4508280"/>
              <a:ext cx="1585440" cy="15822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99" name="WordArt 7"/>
            <p:cNvSpPr txBox="1"/>
            <p:nvPr/>
          </p:nvSpPr>
          <p:spPr>
            <a:xfrm>
              <a:off x="4098240" y="5081760"/>
              <a:ext cx="835200" cy="55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cap="rnd" w="0">
                    <a:solidFill>
                      <a:srgbClr val="000080"/>
                    </a:solidFill>
                    <a:custDash>
                      <a:ds d="100000" sp="1000"/>
                    </a:custDash>
                  </a:ln>
                  <a:solidFill>
                    <a:srgbClr val="000000"/>
                  </a:solidFill>
                  <a:latin typeface="Arial Black"/>
                </a:rPr>
                <a:t>garantat 100%</a:t>
              </a:r>
              <a:endParaRPr b="0" lang="en-US" sz="1400" spc="1" strike="noStrike">
                <a:ln cap="rnd" w="0">
                  <a:solidFill>
                    <a:srgbClr val="000080"/>
                  </a:solidFill>
                  <a:custDash>
                    <a:ds d="100000" sp="1000"/>
                  </a:custDash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02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  <a:ea typeface="MS Mincho"/>
              </a:rPr>
              <a:t>Rolul profesorulu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51116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d9450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ste o resursă în cadrul grupului, facilitând învăţarea elev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9450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curajează şi sprijină implicarea elevilor în propria form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9450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ză materiale suport, de sprijin pentru el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9450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ză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strumente de evaluare pentru încurajarea autonomiei în învăţar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a elev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9450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valuează pemanent activităţile elev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MP900448685[2]"/>
          <p:cNvPicPr/>
          <p:nvPr/>
        </p:nvPicPr>
        <p:blipFill>
          <a:blip r:embed="rId1"/>
          <a:stretch/>
        </p:blipFill>
        <p:spPr>
          <a:xfrm>
            <a:off x="6012000" y="1557360"/>
            <a:ext cx="2598480" cy="3898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02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  <a:ea typeface="MS Mincho"/>
              </a:rPr>
              <a:t>Rolul elevil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88000" y="2565000"/>
            <a:ext cx="352728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09640" indent="-35244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81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eaz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81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az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81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laboreaz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81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iz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81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zolv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bl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81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 în situaţii n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MP900439416[2]"/>
          <p:cNvPicPr/>
          <p:nvPr/>
        </p:nvPicPr>
        <p:blipFill>
          <a:blip r:embed="rId1"/>
          <a:stretch/>
        </p:blipFill>
        <p:spPr>
          <a:xfrm>
            <a:off x="611280" y="1628640"/>
            <a:ext cx="3960720" cy="41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0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02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Rolul pǎrinţil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424944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0280" indent="-447840">
              <a:spcBef>
                <a:spcPts val="1500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e interesează permanent cu privire la activităţile echipelor de pro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447840">
              <a:spcBef>
                <a:spcPts val="1500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rijină şi încurajează proprii copii şi pe colegii acestora pe parcursul derulării proiecte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MP900430493[2]"/>
          <p:cNvPicPr/>
          <p:nvPr/>
        </p:nvPicPr>
        <p:blipFill>
          <a:blip r:embed="rId1"/>
          <a:stretch/>
        </p:blipFill>
        <p:spPr>
          <a:xfrm>
            <a:off x="5364000" y="1916280"/>
            <a:ext cx="324036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01:39:31Z</dcterms:created>
  <dc:creator>eu</dc:creator>
  <dc:description/>
  <dc:language>en-US</dc:language>
  <cp:lastModifiedBy>am</cp:lastModifiedBy>
  <dcterms:modified xsi:type="dcterms:W3CDTF">2011-02-09T20:38:48Z</dcterms:modified>
  <cp:revision>19</cp:revision>
  <dc:subject/>
  <dc:title>INTEL-TEACH</dc:title>
</cp:coreProperties>
</file>